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200-458C-48C8-87EE-06B1FB57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8E5-2787-4E7B-BA71-2D4CAEA7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E4F-900D-46F2-B10E-34B6DBF0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283-8E6B-4CD0-BFB3-CF704DC9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B55-8E2D-43FB-8332-6D985E98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2C0-B94A-4159-B7ED-009E862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8B2-97E3-4AEB-B88B-FD7083D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F9F-28AB-4F52-B4B5-A342364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D62-5763-4502-B38A-3ED57C3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CA5-2E70-433F-B607-1865F5E7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AFF-055F-43BD-B416-97092CC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BE9-3EA2-43C5-A397-AEAF053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011F-99E9-423A-9D5B-3582AA1B8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30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hermano de mi padre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tíos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soy __________ de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dres de mis padres son mi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padres es mi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05120" y="1733400"/>
            <a:ext cx="5667120" cy="329580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 flipV="1">
            <a:off x="6400800" y="2286000"/>
            <a:ext cx="83808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V="1">
            <a:off x="4876920" y="1905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962520" y="4724280"/>
            <a:ext cx="0" cy="99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257800" y="4876920"/>
            <a:ext cx="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553080" y="4876920"/>
            <a:ext cx="106704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980720" y="4800600"/>
            <a:ext cx="762120" cy="9144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04920" y="6248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30492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891540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114800" y="1477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Verdana"/>
              </a:rPr>
              <a:t>El b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629400" y="1859040"/>
            <a:ext cx="2514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 dorm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086600" y="566892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Verdana"/>
              </a:rPr>
              <a:t>La coc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419720" y="55627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6600"/>
                </a:solidFill>
                <a:latin typeface="Verdana"/>
              </a:rPr>
              <a:t>El com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971800" y="574524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Verdana"/>
              </a:rPr>
              <a:t>La s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90720" y="5745240"/>
            <a:ext cx="1828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99"/>
                </a:solidFill>
                <a:latin typeface="Verdana"/>
              </a:rPr>
              <a:t>El gar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895480" y="6324480"/>
            <a:ext cx="3810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cuartos de la c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La familia Lopez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s personas hay en la familia López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inco perso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ellos una casa o un apartame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a c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n ell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arcel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cuartos tiene su cas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o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Expresiones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emparej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mucho en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quinto 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v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a nov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render ___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 un alumno bueno y s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d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e. una carta con bolí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. una lim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r 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. en una casa pri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. un programa depor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 fruta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b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arne, ensalada y pa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MI FAMILIA Y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52:45Z</dcterms:created>
  <dc:creator>Helen Zumaeta</dc:creator>
  <dc:description/>
  <dc:language>en-US</dc:language>
  <cp:lastModifiedBy>Helen Zumaeta</cp:lastModifiedBy>
  <cp:lastPrinted>2014-09-30T13:25:55Z</cp:lastPrinted>
  <dcterms:modified xsi:type="dcterms:W3CDTF">2014-09-30T19:44:40Z</dcterms:modified>
  <cp:revision>16</cp:revision>
  <dc:subject/>
  <dc:title>Me llamo _______ Clase 6nh/il La fecha es el 4 de marzo del 2011</dc:title>
</cp:coreProperties>
</file>